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6B2-658F-4C19-962F-186478DA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7C8-1929-4CED-809E-FEE15E1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216-F091-4D31-A566-AFE67379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A57-2B91-4E64-93A4-E3AB7367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A35-A576-4F17-B597-B7F4143A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B2E-A7C2-4784-AD13-59D26068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557-56AD-402A-A6FF-9D99C98C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5B1-D837-4688-937F-0AB525DA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068-F9D1-46D8-B36A-2E03D314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9D1-2813-40EF-88CD-28D93FF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224-54D1-4A93-A71C-D10FBC9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DA8-53DE-4975-8B6A-FC773E9D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160-CE04-4174-A106-E3F383A69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 Zoomies et les Ve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phoque a des chaus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 chauss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girafe porte un maillot de b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maillot de b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e éléphant porte la ju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e ju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lion a des pyj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pyja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ère ours porte un chap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Un chapea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vache porte un pu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sieur Loup a des chausset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 chausset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ours porte un manteau rou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mantea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Zoomies et les vê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n Pu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chat porte un tee-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tee-shi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demoiselle Renard porte une rob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ne rob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Mouton porte un pantal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 pantal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9:46Z</dcterms:created>
  <dc:creator>CVJH-LAB</dc:creator>
  <dc:description/>
  <dc:language>en-US</dc:language>
  <cp:lastModifiedBy>nield411</cp:lastModifiedBy>
  <dcterms:modified xsi:type="dcterms:W3CDTF">2008-02-23T15:53:32Z</dcterms:modified>
  <cp:revision>15</cp:revision>
  <dc:subject/>
  <dc:title>Slide 1</dc:title>
</cp:coreProperties>
</file>